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8C08-503B-434A-BBC7-282D1B80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2AA9-940A-4273-A9DA-A9F59699D9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03E-9D28-4151-AB5E-76894D3EE7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D8E3-58FA-4746-A9FF-4E8D6DC7A5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2CD0-F73C-4464-BF5B-C4CC1B0981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EFF-104D-4552-A4CF-C819DF73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FC2-D4BE-4AA8-95DF-D8870C54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2E2-CC61-466F-BCA8-5C69945A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5FA-D319-4C98-95FF-9925EDDA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D23C-FD68-4BB8-80C7-0F78A359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765D-F35B-46BB-A3CB-9C62BF5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7FD5-1A8C-4EB4-A42F-9CEA7199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E48-A2A9-4914-B7A5-7F07D68F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9A3-8642-4B78-804D-8A38A1B0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4F37-5063-495F-8682-165FC9FF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C15D-BC80-46F6-ACE8-31559294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6E7-9486-4BFB-B5E0-64BCBAD1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7238-E66E-444D-B067-609B30E2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218D-014F-41B6-B06C-3932CA19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E845-5A57-4E1C-AC43-28CC61F4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F331-0DF6-4513-BC4F-F37BD974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4BA7-B4C2-4C84-BD07-929E04D1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C544-09F3-41A0-BB2C-D17DDF60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B3D3-E214-4077-B763-36726E0F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A1B55-128B-4814-A1FC-BAEAB30D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67C3-1A0E-4692-BC23-102D6AF2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B986-ADE9-4500-95DF-1F64543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5FF-04EB-4407-93E2-CE4D8489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0EFC-62A5-4CA9-9B40-A07FB2F7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127F-A26D-4C86-B7FD-555497F0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8013F-61BD-43E5-B1EB-1C7C3A31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C6B7-13FB-442B-96B3-3AF1AC5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5E51-1149-40C3-A4C2-843A3DDD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9FF6-5834-4320-9658-7CCDF4C5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23CD-8D79-4994-9226-700292F3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BB84-0729-440A-B167-ED5D61F1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2021-A77F-4586-AC54-553216EA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B0D4F-C192-469B-BEC0-3742199C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8EA-E5EF-4CB5-8A08-3CC38508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928FD-199E-48CC-B187-5E42C7EA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B158-F685-42F2-A8F2-CF4663B0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28C5-5AB4-4C5A-BA71-95A52441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22B8-2DFD-4815-B641-3B00B34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41400-022B-4B40-A2AB-47EAB82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5330C-65AD-49D4-854A-5B80019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EF7D-2CCF-45A4-9AD8-DEE0EE06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55CE-E381-44A3-9E36-857979A7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3838-99DE-45E8-B7B9-B6022FA3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690-592D-48C7-A2AD-928B3549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0B4-4127-4C2E-B15E-1FFCE1C2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06A-920B-4A90-B233-EFEE90FA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9EC-168D-4311-BC33-D35B6E74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36A-4673-481A-BBCD-14294CEC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6610-02F2-464F-8C25-8884484C1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4C9D-398C-446F-8380-64AAE8F307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D355-2BD6-4224-B476-DB1E51A7A8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870-8916-4A61-93F2-5ACAD8153E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Full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Prof.</a:t>
            </a:r>
            <a:r>
              <a:rPr b="0" lang="sr-Latn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Vladimir Juriš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in the structure of the wall of blood vess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eredit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Rendu-Osler-Weber disea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reditary hemorrhagic telangiectasia, with numerous AV malformations)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Ehlers-Danlos-ов syndrome (collagen structure disord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еч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mmune proces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chonlein-Henoch's purpura, S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lack of vitamin S (scurvy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helial cells lose their contact ability and collagen fiber synthesis is redu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enile atro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llagen fibers </a:t>
            </a: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(senile purpur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long-term treatment with corticosteroi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Cushing's disease (steroid purpura), due to protein break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iagram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Quantitative disord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the number of platelets (thrombocytopenia, less than 100,000/m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formatio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reakdow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eposition of platelets in splenomegaly (up to 8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Qualitative disord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platelet function (thrombocytopath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,000 - 400,000 cells/mm3  norm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0,000                                    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,000 - 100,000      moderate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50,000                     severe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,000                      vital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formation of platele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ongenital disorders (rare, hereditary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Fanconi's anemi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order of genes for DNA repair enzymes, KS insufficie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Wiscott-Aldrich syndrom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-linked disease, eczema, thrombocytopenia and immunodeficiency, decreased IgM, increased IgA and IgE, IgG may be decreased or increa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one marrow aplasi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iation, cytostatic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taking alcohol, drugs or hormone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trogen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ack of vitamin V12 or folic ac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elet athesia disorders and vWF de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Content Placeholder 3" descr="S01871-004-f008"/>
          <p:cNvPicPr/>
          <p:nvPr/>
        </p:nvPicPr>
        <p:blipFill>
          <a:blip r:embed="rId1"/>
          <a:stretch/>
        </p:blipFill>
        <p:spPr>
          <a:xfrm>
            <a:off x="2311560" y="1798560"/>
            <a:ext cx="4520880" cy="41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разградња тромбоцит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ongenital thrombocytope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aternal immune reaction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etal platelets (similar to erythroblastosis fetali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utoantibodies in the mother's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stream enter the fetus's bloodstream via the placen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 thrombocytope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rugs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xic effect or type II or III hypersensitivity reaction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ood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us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xcessive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in thrombotic thrombocytopenic purpura and DI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idiopathic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oimmune?) thrombocytopenic purpur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induced by thrombocytope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rin -induced thrombocytop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It occu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3-5% of patients treated with unfractionated hepar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2 weeks after the introduction of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C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G antibodies against platelet factor 4 in a complex with heparin on the platelet memb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Pathogenes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, arterial and venous (leading to severe thrombocytop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ntibody binding causes platelet activation and 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herap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rombocytopenia - stop treatment with hepar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lytic thrombocytopenic purpu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ongenital for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the metalloproteinase enzyme that cleaves vWF in a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latelet-rich thro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cquired for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antibodies that inhibit metalloprotein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5029200" y="990720"/>
            <a:ext cx="36655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chi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57400" cy="458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039920" cy="2629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4521240" y="5172120"/>
            <a:ext cx="46227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y do not fade und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ff.dg. angi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y are not palp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f. dg. vasculi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572000" y="1828800"/>
            <a:ext cx="417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ypical of disorders of platelet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thrombocytop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bl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thromb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bl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the blood vesse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the number and function of plate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 factor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thromb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30" descr=""/>
          <p:cNvPicPr/>
          <p:nvPr/>
        </p:nvPicPr>
        <p:blipFill>
          <a:blip r:embed="rId1"/>
          <a:stretch/>
        </p:blipFill>
        <p:spPr>
          <a:xfrm>
            <a:off x="2971800" y="4967280"/>
            <a:ext cx="2895480" cy="1676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1630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thrombocytope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1028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973600" cy="41911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00240" y="21333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l Endanger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occu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5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values: 150-40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029" descr=""/>
          <p:cNvPicPr/>
          <p:nvPr/>
        </p:nvPicPr>
        <p:blipFill>
          <a:blip r:embed="rId3"/>
          <a:stretch/>
        </p:blipFill>
        <p:spPr>
          <a:xfrm>
            <a:off x="2590920" y="1828800"/>
            <a:ext cx="21430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eredit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l factors may be missing, the most common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Willebrand's dise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VIII deficiency (hemophilia 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IX deficiency (hemophilia V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iver dise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ack of vitamin 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destruction of intestinal flora by antibiotics or reduced fat absorption (VII, IX and X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Presence of coagulation inhibit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 on coagulation factors, paraproteinemia) lupus anticoagul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xcessive consump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agulation factors due to increased lysis of fibrino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liver fail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reased synthesis of factors that inactivate plasmin or inactivate plasminogen activato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malignant tumo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lease proteolytic enzymes that break down fibr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Willebrand's diseas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Hereditary disease with moderate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somal dominant 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 = most common (70% of all ca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nged bleeding time and normal platelet 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↓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plasma vWF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↓ factor VIII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trombociti"/>
          <p:cNvPicPr/>
          <p:nvPr/>
        </p:nvPicPr>
        <p:blipFill>
          <a:blip r:embed="rId1"/>
          <a:stretch/>
        </p:blipFill>
        <p:spPr>
          <a:xfrm>
            <a:off x="890640" y="973080"/>
            <a:ext cx="7572240" cy="5672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2971800" y="1143000"/>
            <a:ext cx="23623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otheli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086600" y="3230640"/>
            <a:ext cx="1414440" cy="57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629400" y="4724280"/>
            <a:ext cx="141444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t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905440" y="6111720"/>
            <a:ext cx="236232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telet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43000" y="1409760"/>
            <a:ext cx="137160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a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120680" y="2325600"/>
            <a:ext cx="1828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106640" y="2859120"/>
            <a:ext cx="1865160" cy="95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endothelial microfibr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ditary disease with severe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ia the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H chromos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ess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% have no positive family history (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new mu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ibitors develop in 15% of sever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Arial"/>
              </a:rPr>
              <a:t>↓ </a:t>
            </a: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Arial"/>
              </a:rPr>
              <a:t>amount or activity of factor V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actor VIII = cofactor for the activation of factor X in the coagulation casc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usually exist in severe forms (factor VIII &lt;1% of normal values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in the j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ruis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after trauma or surgical inter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after tooth ex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verity of hemophili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mophilia – below 2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hemophilia – 2-10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d hemophilia – 20–30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emophilia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iciency F VIII) and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iciency F IX) are transmitted by H chromosomes and men become ill. Women are carriers, without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0" y="2438280"/>
            <a:ext cx="4435560" cy="3548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4419720" cy="3537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Von Willebrand</a:t>
            </a:r>
            <a:r>
              <a:rPr b="1" lang="en-US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diseas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the major fVIII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A (F VIII deficiency; 85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2560" y="1904760"/>
            <a:ext cx="5267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Spontaneous or traumatic subcutaneous ble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outh, lips, tong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j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C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gastro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3025800" cy="3733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5410080" y="5791320"/>
            <a:ext cx="373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 после интрамускуларне инј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X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via the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X chromoso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ess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less represented (15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linically indistinguish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Hemophilia A and the laboratory results are simi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: determining the concentration of factor 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495680" y="1905120"/>
            <a:ext cx="4473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hym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_x000b_slide04.tif                                                    0000003B_x0008_G3/8868A                       B2B8FD55:"/>
          <p:cNvPicPr/>
          <p:nvPr/>
        </p:nvPicPr>
        <p:blipFill>
          <a:blip r:embed="rId1"/>
          <a:stretch/>
        </p:blipFill>
        <p:spPr>
          <a:xfrm>
            <a:off x="2295360" y="1752480"/>
            <a:ext cx="2041560" cy="4643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5867280" y="3352680"/>
            <a:ext cx="294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ypical of coagulation factor defici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presentation of a lack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1" descr=""/>
          <p:cNvPicPr/>
          <p:nvPr/>
        </p:nvPicPr>
        <p:blipFill>
          <a:blip r:embed="rId1"/>
          <a:stretch/>
        </p:blipFill>
        <p:spPr>
          <a:xfrm>
            <a:off x="633240" y="2419200"/>
            <a:ext cx="75232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presentation of a lack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1027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510080" cy="35049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288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insu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st coagulation factors are synthesized in the li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1029"/>
          <p:cNvSpPr/>
          <p:nvPr/>
        </p:nvSpPr>
        <p:spPr>
          <a:xfrm>
            <a:off x="533520" y="54864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onjunctival hemorrh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creased platelet activ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rterial thromb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 of platelet aggrega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ccelerated activity of the coagulation sys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ous thromb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 of fibrin complex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 in the number of platelets (thrombocytosis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ssential thrombocythemi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lignant proliferation in the bone marro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second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lignant blood tumors, connective tissue diseases, after splenectom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 in adhesiveness and aggregation ability of platele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in blood flow and damage to the endotheliu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herosclero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holesterol concent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that increase the sensitivity of platelet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action of factors that cause athesia and aggregation of platelet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d activity of the coagulation syste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ood stasi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immobile patients or heart failur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of the ratio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agulation factors and anticoagulation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- increasing the activity of coagulation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omen with an increased concentration of estrogen in the blood (oral contraceptives, older than 35 yea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cy and puerper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tum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- </a:t>
            </a:r>
            <a:r>
              <a:rPr b="1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reducing the activity of anticoagulant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ditary disorders, complete lack of antithrombin III, plasminogen, proteins C and 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travascular coag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n acquired syndro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y systemic intravascular coagulatio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travascular coa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Consumptive coagulopath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consumable thrombohemorrhagic syndrom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defibrina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ck is a general disorder of hemosta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s a whole it includes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ag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brinolytic mechanis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hibitors, quin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omplement syst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ori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533520" y="21366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isorder begins with the activation of coagulation facto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agulation factors are used up and we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thrombi and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brinolysis occu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centration of fibrin degradation products increases, platelet function is disrupted = bleeding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1052"/>
          <p:cNvSpPr/>
          <p:nvPr/>
        </p:nvSpPr>
        <p:spPr>
          <a:xfrm>
            <a:off x="2057400" y="5334120"/>
            <a:ext cx="2438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053"/>
          <p:cNvSpPr/>
          <p:nvPr/>
        </p:nvSpPr>
        <p:spPr>
          <a:xfrm>
            <a:off x="4267080" y="5334120"/>
            <a:ext cx="24386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DI</a:t>
            </a:r>
            <a:r>
              <a:rPr b="0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042"/>
          <p:cNvSpPr/>
          <p:nvPr/>
        </p:nvSpPr>
        <p:spPr>
          <a:xfrm>
            <a:off x="3229920" y="18572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underly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43"/>
          <p:cNvSpPr/>
          <p:nvPr/>
        </p:nvSpPr>
        <p:spPr>
          <a:xfrm>
            <a:off x="2021400" y="300024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activation of 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44"/>
          <p:cNvSpPr/>
          <p:nvPr/>
        </p:nvSpPr>
        <p:spPr>
          <a:xfrm>
            <a:off x="367200" y="3724200"/>
            <a:ext cx="203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tion of fib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45"/>
          <p:cNvSpPr/>
          <p:nvPr/>
        </p:nvSpPr>
        <p:spPr>
          <a:xfrm>
            <a:off x="6573240" y="3786120"/>
            <a:ext cx="198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let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gulation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46"/>
          <p:cNvSpPr/>
          <p:nvPr/>
        </p:nvSpPr>
        <p:spPr>
          <a:xfrm>
            <a:off x="2369160" y="57150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romb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47"/>
          <p:cNvSpPr/>
          <p:nvPr/>
        </p:nvSpPr>
        <p:spPr>
          <a:xfrm>
            <a:off x="4722480" y="57150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48"/>
          <p:cNvSpPr/>
          <p:nvPr/>
        </p:nvSpPr>
        <p:spPr>
          <a:xfrm>
            <a:off x="434340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50"/>
          <p:cNvSpPr/>
          <p:nvPr/>
        </p:nvSpPr>
        <p:spPr>
          <a:xfrm flipH="1" flipV="1">
            <a:off x="2666880" y="3580560"/>
            <a:ext cx="1067040" cy="1143000"/>
          </a:xfrm>
          <a:custGeom>
            <a:avLst/>
            <a:gdLst>
              <a:gd name="textAreaLeft" fmla="*/ 613800 w 1067040"/>
              <a:gd name="textAreaRight" fmla="*/ 900360 w 10670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51"/>
          <p:cNvSpPr/>
          <p:nvPr/>
        </p:nvSpPr>
        <p:spPr>
          <a:xfrm flipV="1">
            <a:off x="5334120" y="3580560"/>
            <a:ext cx="1066680" cy="1143000"/>
          </a:xfrm>
          <a:custGeom>
            <a:avLst/>
            <a:gdLst>
              <a:gd name="textAreaLeft" fmla="*/ 613800 w 1066680"/>
              <a:gd name="textAreaRight" fmla="*/ 900360 w 106668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54"/>
          <p:cNvSpPr/>
          <p:nvPr/>
        </p:nvSpPr>
        <p:spPr>
          <a:xfrm>
            <a:off x="6934320" y="5105520"/>
            <a:ext cx="1066680" cy="11430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55"/>
          <p:cNvSpPr/>
          <p:nvPr/>
        </p:nvSpPr>
        <p:spPr>
          <a:xfrm flipH="1">
            <a:off x="685080" y="5105520"/>
            <a:ext cx="1066680" cy="11430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of DI</a:t>
            </a:r>
            <a:r>
              <a:rPr b="0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560" y="11430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f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psis (Gram (+) and Gram (-) bacteria), viral infections (Dengue, Ebola), others (rickettsia, malaria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rauma/tissue inju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d injury, pancreatitis, fat embolism, penetrating and other severe woun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alignan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lid tumors, acute leukemias (especially AML-M3), chronic leukemias (CMML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omplications after childbir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acental abruption, amniotic fluid embol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ascular disea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arge hemangiomas, large aortic aneurysm, vascular malform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erious allergic/toxic rea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xic shock, snake or spider bi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erious immune rea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ute post-transfusion haemolysis, heparin-induced thrombocytopenia, type II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sepsis: a complex clinical syndr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11040" y="4203720"/>
            <a:ext cx="400392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mortality (28%-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erogeneous patient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5"/>
          <p:cNvGrpSpPr/>
          <p:nvPr/>
        </p:nvGrpSpPr>
        <p:grpSpPr>
          <a:xfrm>
            <a:off x="4262400" y="2048040"/>
            <a:ext cx="4267080" cy="4069800"/>
            <a:chOff x="4262400" y="2048040"/>
            <a:chExt cx="4267080" cy="4069800"/>
          </a:xfrm>
        </p:grpSpPr>
        <p:sp>
          <p:nvSpPr>
            <p:cNvPr id="284" name="Oval 6"/>
            <p:cNvSpPr/>
            <p:nvPr/>
          </p:nvSpPr>
          <p:spPr>
            <a:xfrm>
              <a:off x="4262400" y="2048040"/>
              <a:ext cx="2438280" cy="24382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7"/>
            <p:cNvSpPr/>
            <p:nvPr/>
          </p:nvSpPr>
          <p:spPr>
            <a:xfrm>
              <a:off x="6091200" y="2048040"/>
              <a:ext cx="2438280" cy="24382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8"/>
            <p:cNvSpPr/>
            <p:nvPr/>
          </p:nvSpPr>
          <p:spPr>
            <a:xfrm>
              <a:off x="5176800" y="3571920"/>
              <a:ext cx="2438280" cy="243792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9"/>
            <p:cNvSpPr/>
            <p:nvPr/>
          </p:nvSpPr>
          <p:spPr>
            <a:xfrm>
              <a:off x="5786280" y="3190680"/>
              <a:ext cx="1219320" cy="1218960"/>
            </a:xfrm>
            <a:prstGeom prst="ellipse">
              <a:avLst/>
            </a:prstGeom>
            <a:solidFill>
              <a:srgbClr val="00bfec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0"/>
            <p:cNvSpPr/>
            <p:nvPr/>
          </p:nvSpPr>
          <p:spPr>
            <a:xfrm>
              <a:off x="6548400" y="5749920"/>
              <a:ext cx="38088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1"/>
            <p:cNvSpPr/>
            <p:nvPr/>
          </p:nvSpPr>
          <p:spPr>
            <a:xfrm>
              <a:off x="4363920" y="3857400"/>
              <a:ext cx="38088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>
              <a:off x="8015040" y="2282760"/>
              <a:ext cx="38124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3"/>
          <p:cNvSpPr/>
          <p:nvPr/>
        </p:nvSpPr>
        <p:spPr>
          <a:xfrm>
            <a:off x="4408560" y="2616120"/>
            <a:ext cx="174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inflam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5551560" y="4780080"/>
            <a:ext cx="174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ed fibrin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6745320" y="2770200"/>
            <a:ext cx="17431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38120" y="310212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0504d"/>
                </a:solidFill>
                <a:latin typeface="Calibri"/>
                <a:ea typeface="Arial"/>
              </a:rPr>
              <a:t>Antithromb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732920" y="3030480"/>
            <a:ext cx="35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  <a:ea typeface="Arial"/>
              </a:rPr>
              <a:t>Thromboge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143000" y="2286000"/>
            <a:ext cx="5867280" cy="762120"/>
          </a:xfrm>
          <a:custGeom>
            <a:avLst/>
            <a:gdLst>
              <a:gd name="textAreaLeft" fmla="*/ 1026720 w 5867280"/>
              <a:gd name="textAreaRight" fmla="*/ 4253760 w 58672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12040" y="129528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lood vesse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4200" y="380988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Arial"/>
              </a:rPr>
              <a:t>(favor the liquid state of the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337720" y="380988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(favor coag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DI</a:t>
            </a:r>
            <a:r>
              <a:rPr b="0" lang="sr-Latn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Bleeding tendency in the presence of widespread thrombi in the circ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acute DI</a:t>
            </a:r>
            <a:r>
              <a:rPr b="1" lang="sr-Latn-RS" sz="2400" spc="-1" strike="noStrike">
                <a:solidFill>
                  <a:srgbClr val="558ed5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bleeding predomin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childbirth complications and tra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chronic D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rombotic complications domin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Symptoms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to marked </a:t>
            </a: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shock, renal failure, dyspnea, cyanosis, convulsions and c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hypo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haracteristic symp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asoconstriction, tissue factor (TF) and prostacyclin release after blood vessel wall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cyte 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hesia, aggregation, release of ADP and prostacyc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 factor activ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series of cascade reactions that lead to the production of thrombin and the conversion of fibrinogen to fib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noly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imits the spread of the thrombus outside the injury site, leads to lysis of the thrombus and wound he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trombociti 2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Content Placeholder 5" descr="blood clot.jpg"/>
          <p:cNvPicPr/>
          <p:nvPr/>
        </p:nvPicPr>
        <p:blipFill>
          <a:blip r:embed="rId1"/>
          <a:stretch/>
        </p:blipFill>
        <p:spPr>
          <a:xfrm>
            <a:off x="1066680" y="1676520"/>
            <a:ext cx="6400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ncreas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 tendency to blee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morrhagic diathesis, hemorrhagic syndr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ncreas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lood coagu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endency to thrombosis and em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that increase the tendency to hemorrh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structure of the wall of blood vess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number and functio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concentration of blood coagulat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isorders can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c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6:33:02Z</dcterms:created>
  <dc:creator>Simonovic</dc:creator>
  <dc:description/>
  <dc:language>en-US</dc:language>
  <cp:lastModifiedBy>Jelena Đordjević</cp:lastModifiedBy>
  <dcterms:modified xsi:type="dcterms:W3CDTF">2023-08-22T14:59:38Z</dcterms:modified>
  <cp:revision>70</cp:revision>
  <dc:subject/>
  <dc:title>Поремећаји хемостазе</dc:title>
</cp:coreProperties>
</file>